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ED6C-F5C5-4CA7-A795-D4F424815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289A-4C92-462C-8018-24DC1E96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1B6B-21B7-40D3-94A5-55CF09B0D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AAA4-69FF-4E1B-8AD1-B947034D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17B0-7ACE-4526-AF82-ED11235E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DE84-79CF-4B9F-850D-68206FC89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7012-0C8A-44FF-8CE1-91F9D737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76F8-ACAB-45B9-B6C2-1E9DBB29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D662-301F-45AC-9B9B-33D53538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0F96-2502-47F9-8054-F123E2AD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7CEA-9177-47AE-835C-1493B716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5B8B-69A6-4456-A410-1372CF32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F068D5-56D3-4848-88D9-0C808F20CD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E89B7-8FE0-4FA0-85CF-BD4F988D5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www.cia.gov/library/publications/the-world-factbook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s://www.cia.gov/library/publications/the-world-factbook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e6fdfa"/>
              </a:gs>
              <a:gs pos="100000">
                <a:srgbClr val="a2f7ec"/>
              </a:gs>
            </a:gsLst>
            <a:lin ang="5400000"/>
          </a:gradFill>
          <a:ln w="9360">
            <a:solidFill>
              <a:srgbClr val="31aba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sourcing: Pros and C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gradFill rotWithShape="0">
            <a:gsLst>
              <a:gs pos="0">
                <a:srgbClr val="fff4db"/>
              </a:gs>
              <a:gs pos="100000">
                <a:srgbClr val="ffdc81"/>
              </a:gs>
            </a:gsLst>
            <a:lin ang="5400000"/>
          </a:gradFill>
          <a:ln w="9360">
            <a:solidFill>
              <a:srgbClr val="efa91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. Rus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. Farr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Go Musk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siness Week Arti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 the arti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e the pdf- save 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ve arguments for and against outrsourc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ae6e6"/>
              </a:gs>
              <a:gs pos="100000">
                <a:srgbClr val="eda3a3"/>
              </a:gs>
            </a:gsLst>
            <a:lin ang="5400000"/>
          </a:gradFill>
          <a:ln w="9360">
            <a:solidFill>
              <a:srgbClr val="99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e will do 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gradFill rotWithShape="0">
            <a:gsLst>
              <a:gs pos="0">
                <a:srgbClr val="effde6"/>
              </a:gs>
              <a:gs pos="100000">
                <a:srgbClr val="c6f7a2"/>
              </a:gs>
            </a:gsLst>
            <a:lin ang="5400000"/>
          </a:gradFill>
          <a:ln w="9360">
            <a:solidFill>
              <a:srgbClr val="76ab3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  Complete Asia Outsourcing Comparison She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  Evaluate Positives/ Negatives of Outsourc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)  Pages- Develop a company with pros/ cons of outsourc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gradFill rotWithShape="0">
            <a:gsLst>
              <a:gs pos="0">
                <a:srgbClr val="fff4db"/>
              </a:gs>
              <a:gs pos="100000">
                <a:srgbClr val="ffdc81"/>
              </a:gs>
            </a:gsLst>
            <a:lin ang="5400000"/>
          </a:gradFill>
          <a:ln w="9360">
            <a:solidFill>
              <a:srgbClr val="efa91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urpose: What are the positives and negatives of Outsourcing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ssential Questions:1) What advantages might a business have from outsourcing? What are some disadvantages?a.If you owned a business, how might you resolve the question of outsourcing or not? How would you respond to your critic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ssential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ae6e6"/>
              </a:gs>
              <a:gs pos="100000">
                <a:srgbClr val="eda3a3"/>
              </a:gs>
            </a:gsLst>
            <a:lin ang="5400000"/>
          </a:gradFill>
          <a:ln w="9360">
            <a:solidFill>
              <a:srgbClr val="99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Outsourcing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tart your dream compan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factors would you consider when deciding whether or not to outsour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ggadocio"/>
              </a:rPr>
              <a:t>Starting A Business:  Would you outsour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to CIA world Factbook Link from w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United St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0" lang="en-US" sz="3200" spc="-1" strike="noStrike">
                <a:solidFill>
                  <a:srgbClr val="008000"/>
                </a:solidFill>
                <a:latin typeface="Bernard MT Condensed"/>
              </a:rPr>
              <a:t>econom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actors would you look at when deciding whether or not to outsour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wse/ look under economics 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ef8e1c"/>
                </a:solidFill>
                <a:uFillTx/>
                <a:latin typeface="Calibri"/>
                <a:hlinkClick r:id="rId2"/>
              </a:rPr>
              <a:t>https://www.cia.gov/library/publications/the-world-factbook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ggadocio"/>
              </a:rPr>
              <a:t>Starting A Business:  Would you outsour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rd the factors for the United States on your cha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ggadocio"/>
              </a:rPr>
              <a:t>Starting A Business:  Would you outsour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 to CIA world Factbook Link from wi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A east and Southeast Asia or In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ef8e1c"/>
                </a:solidFill>
                <a:uFillTx/>
                <a:latin typeface="Calibri"/>
                <a:hlinkClick r:id="rId2"/>
              </a:rPr>
              <a:t>https://www.cia.gov/library/publications/the-world-factbook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wse/ look around- what would be the best fit for your company? 7 min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ggadocio"/>
              </a:rPr>
              <a:t>Starting A Business:  Would you outsour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ord the factors for the 3 Asian countries on your chart.  (5 minut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aggadocio"/>
              </a:rPr>
              <a:t>Starting A Business:  Would you outsourc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uld you outsource?  Why or Why no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  Record 3 pros and 3 cons from the article you read on Friday.  6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_____Give 3 statistics of why you would outsource and 2 statistics of why you would not outsource from cia worldfactbook.  5 poi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 on your wiki toda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ae6e6"/>
              </a:gs>
              <a:gs pos="100000">
                <a:srgbClr val="eda3a3"/>
              </a:gs>
            </a:gsLst>
            <a:lin ang="5400000"/>
          </a:gradFill>
          <a:ln w="9360">
            <a:solidFill>
              <a:srgbClr val="99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e will do 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gradFill rotWithShape="0">
            <a:gsLst>
              <a:gs pos="0">
                <a:srgbClr val="effde6"/>
              </a:gs>
              <a:gs pos="100000">
                <a:srgbClr val="c6f7a2"/>
              </a:gs>
            </a:gsLst>
            <a:lin ang="5400000"/>
          </a:gradFill>
          <a:ln w="9360">
            <a:solidFill>
              <a:srgbClr val="76ab3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)What do you know about outsourcing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)Read: Business Week article: Commentary: Outsourcing Jobs: Is it Bad? 3)Create a T-chart- Pros/ Cons of outsourc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)Discussion: The Pros/ Cons of outsourc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gradFill rotWithShape="0">
            <a:gsLst>
              <a:gs pos="0">
                <a:srgbClr val="fff4db"/>
              </a:gs>
              <a:gs pos="100000">
                <a:srgbClr val="ffdc81"/>
              </a:gs>
            </a:gsLst>
            <a:lin ang="5400000"/>
          </a:gradFill>
          <a:ln w="9360">
            <a:solidFill>
              <a:srgbClr val="efa91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urpose: What are the positives and negatives of Outsourcing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ssential Questions:1) What advantages might a business have from outsourcing? What are some disadvantages?a.If you owned a business, how might you resolve the question of outsourcing or not? How would you respond to your critic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2T15:48:14Z</dcterms:created>
  <dc:creator>AWL Loaner</dc:creator>
  <dc:description/>
  <dc:language>en-US</dc:language>
  <cp:lastModifiedBy>AWL Loaner</cp:lastModifiedBy>
  <dcterms:modified xsi:type="dcterms:W3CDTF">2011-04-22T16:05:27Z</dcterms:modified>
  <cp:revision>2</cp:revision>
  <dc:subject/>
  <dc:title>Outsourcing: Pros and Cons</dc:title>
</cp:coreProperties>
</file>